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6A3-7C2B-4042-9943-1D28EE8D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BAB-B0F4-40A9-B18B-5B48B63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636-6BD6-4E93-B974-8D33521D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6EB-A6F5-4BD1-A0C0-02590820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6E54-7A34-429A-AA4D-58868850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B9DC-382C-47ED-99E0-D598369F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0E57-58CA-45AE-BFB2-28F700C1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CF2B-3400-4B0F-9D20-16B21252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82E2-9DF7-4C0A-8D26-7446C605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B07C-1353-4361-9912-9747363C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7FA4-65D9-4935-998F-4D58B159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9C6-2CC1-440A-BA79-EC3B316F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6B66-7502-4BF3-8CF3-4BC1B215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92B0-A543-4FA1-BBE6-4804D393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0790-F694-4B61-94A5-9A213151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42FD-5989-4FFA-8C9A-84636792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53D5-1F50-438A-B862-D09F806A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86F-D9D1-4389-850E-7B3D0AF6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072-799A-4D33-B9F4-A4910B43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599-97AE-4F85-ADAE-093790F0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06F-CAE4-4EB3-AB19-B786EDF3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EFB-0344-4D54-8FFD-1B07288E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80C-3864-4D02-A511-CF02F067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A80-0B88-4E2D-9B4E-9C568D72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990C-9CA0-43DA-8CB2-32CA8FA64C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3D10-83C1-4D10-BB5A-6D3F7AB81C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.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assignment on ch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aeologist Leonard wooley set out in 1922 to look for Ur a city mentioned in the bible, Ur was the origenal home of Abraham the father of the hebrew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bble:Gobble::Sip: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ball:Gridiron::baseball: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.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5:18:54Z</dcterms:created>
  <dc:creator>Angie</dc:creator>
  <dc:description/>
  <dc:language>en-US</dc:language>
  <cp:lastModifiedBy>Angie McCall</cp:lastModifiedBy>
  <dcterms:modified xsi:type="dcterms:W3CDTF">2011-09-28T13:00:22Z</dcterms:modified>
  <cp:revision>3</cp:revision>
  <dc:subject/>
  <dc:title>English</dc:title>
</cp:coreProperties>
</file>